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9579-64E0-4451-97D7-A7984A0A0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C14F-EC26-4467-9296-C59D3389C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382C-5852-44A7-B6B4-8C0FC7FDC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D7E4-0B26-40B5-BD50-C13943292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E6D1-2480-4B88-AE78-17C454C40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C0D9-8A00-48A0-B16E-7669FC2CF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9A56-B32E-476F-8EAE-C2198B39F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D74A-7F96-41A0-82B2-F88C1E22C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B68F-C085-44E7-B571-A9FF0E8F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F0D7-B0D5-4D85-A3E0-196DEE4D0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07E9-649D-4C2A-8BE1-AE7D72999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8703-7E3C-4545-AB9C-CF9E93172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01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2A7B-605F-4DD7-8EC2-EBA4E0A62A9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524640"/>
            <a:ext cx="874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Arial"/>
              </a:rPr>
              <a:t>Министерство здравоохранения Республики Татарстан</a:t>
            </a: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www.minzdrav.tatar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524640"/>
            <a:ext cx="874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276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чальника управления метрологического и технического контроля, охраны труда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Гайнутдинова И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28000" y="270000"/>
            <a:ext cx="866880" cy="857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imes New Roman"/>
              </a:rPr>
              <a:t>Казань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221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«Об итогах работы медицинских учреждений Республики Татарстан в отопительный период 2007/2008 гг.  и задачах по эффективной подготовке к отопительному периоду 2008/2009 гг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476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Министерство здравоохранения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Медицинские учреждения </a:t>
            </a:r>
            <a:br>
              <a:rPr sz="3200"/>
            </a:br>
            <a:r>
              <a:rPr b="1" lang="en-US" sz="3200" spc="-1" strike="noStrike" u="sng">
                <a:solidFill>
                  <a:srgbClr val="336600"/>
                </a:solidFill>
                <a:uFillTx/>
                <a:latin typeface="Times New Roman"/>
              </a:rPr>
              <a:t>готовые  к приёму тепловой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ГУЗ «Республиканская станция переливания кров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ГУЗ «Республиканский центр медицины катастро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Управление здравоохранения г.Казани- 122 объекта, 42 медицинских учреждения (66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Управление здравоохранения г.Набережные Челны-10 медицинских учреждений (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i="1" lang="en-US" sz="6600" spc="-1" strike="noStrike">
                <a:solidFill>
                  <a:srgbClr val="336600"/>
                </a:solidFill>
                <a:latin typeface="Times New Roman"/>
              </a:rPr>
              <a:t>Спасибо за внимание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Перечень коммунальных объектов которые </a:t>
            </a:r>
            <a:r>
              <a:rPr b="1" lang="en-US" sz="2800" spc="-1" strike="noStrike" u="sng">
                <a:solidFill>
                  <a:srgbClr val="336600"/>
                </a:solidFill>
                <a:uFillTx/>
                <a:latin typeface="Times New Roman"/>
              </a:rPr>
              <a:t>необходимо подготовить к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916280"/>
          <a:ext cx="8713800" cy="3877920"/>
        </p:xfrm>
        <a:graphic>
          <a:graphicData uri="http://schemas.openxmlformats.org/drawingml/2006/table">
            <a:tbl>
              <a:tblPr/>
              <a:tblGrid>
                <a:gridCol w="7129440"/>
                <a:gridCol w="158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Зданий и сооруж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570 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Ко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05   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том числе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аботающих на природном га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аботающих на жидком топл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работающих на твёрдом топл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электроко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нутренних сетей от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240  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нешних тепловых с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61к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том числе ветх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7 к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Обеспеченность приборами учёта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Times New Roman"/>
              </a:rPr>
              <a:t>республиканских 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484280"/>
          <a:ext cx="8424720" cy="4941720"/>
        </p:xfrm>
        <a:graphic>
          <a:graphicData uri="http://schemas.openxmlformats.org/drawingml/2006/table">
            <a:tbl>
              <a:tblPr/>
              <a:tblGrid>
                <a:gridCol w="2096280"/>
                <a:gridCol w="1785960"/>
                <a:gridCol w="1222920"/>
                <a:gridCol w="1702440"/>
                <a:gridCol w="16171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риборов у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сего необходимо прибо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Име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обеспечен-   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Требу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станов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Тепловой энер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Г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Холодной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Обеспеченность приборами учёта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Times New Roman"/>
              </a:rPr>
              <a:t>муниципальных  учрежд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413000"/>
          <a:ext cx="8317080" cy="5184720"/>
        </p:xfrm>
        <a:graphic>
          <a:graphicData uri="http://schemas.openxmlformats.org/drawingml/2006/table">
            <a:tbl>
              <a:tblPr/>
              <a:tblGrid>
                <a:gridCol w="2384640"/>
                <a:gridCol w="1650960"/>
                <a:gridCol w="1185840"/>
                <a:gridCol w="1461960"/>
                <a:gridCol w="163368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приборов у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сего необходимо прибо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Име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%    обеспечен- 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Требует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установ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Тепловой энер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3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Г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6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Холодной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6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5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6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1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00"/>
                </a:solidFill>
                <a:uFillTx/>
                <a:latin typeface="Arial"/>
              </a:rPr>
              <a:t>Допустили отставание при подготовке к 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907920"/>
          <a:ext cx="8785440" cy="553896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ГУЗ «Высокогорская центральная районная больниц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котельных пяти участковых больниц и амбулаторий не были своевременно установлены сигнализаторы углекислого газ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ГУЗ «Зеленодольская центральная районная больниц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детской больнице не были своевременно завершены работы по капитальному ремонту систем отопления, холодного и горячего водоснабж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Нижне-Вязовской врачебной амбулатории не были своевременно проведены работы по реконструкции газовой котельн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МБУЗ «Лениногорская центральная районная боль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В Старо-Кувакской врачебной амбулатории не были своевременно проведены работы  по замене кот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МБУЗ «Нурлатская центральная районная больниц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е были своевременно проведены работы по ремонту теплотрассы (350 п.м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ГУЗ «Пестречинская центральная районная больниц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Не были своевременно проведены работы по ремонту 2-х котлов в Пановской врачебной амбула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Не были своевременно обеспечены теплом </a:t>
            </a:r>
            <a:r>
              <a:rPr b="1" lang="ru-RU" sz="3200" spc="-1" strike="noStrike" u="sng">
                <a:solidFill>
                  <a:srgbClr val="336600"/>
                </a:solidFill>
                <a:uFillTx/>
                <a:latin typeface="Times New Roman"/>
              </a:rPr>
              <a:t>фельдшерско-акушерские пункты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16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Нурлатской ЦР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Кукморской 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Тетюшской 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Дрожжановской 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Акубаевской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700280"/>
            <a:ext cx="46162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Бавлинской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Елабужской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Кайбицкой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Менделеевской Ц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Рыбно-Слободской ЦР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00"/>
                </a:solidFill>
                <a:uFillTx/>
                <a:latin typeface="Times New Roman"/>
              </a:rPr>
              <a:t>Освоение финансовых  сред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84280"/>
          <a:ext cx="8496360" cy="4398840"/>
        </p:xfrm>
        <a:graphic>
          <a:graphicData uri="http://schemas.openxmlformats.org/drawingml/2006/table">
            <a:tbl>
              <a:tblPr/>
              <a:tblGrid>
                <a:gridCol w="5256000"/>
                <a:gridCol w="165600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е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МУ «РККВД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 «МКДЦ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З «Наркологический диспансер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З «РКПТД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МУ «РК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0,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З «РКОБ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3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6600"/>
                </a:solidFill>
                <a:uFillTx/>
                <a:latin typeface="Times New Roman"/>
              </a:rPr>
              <a:t>Задачи по подготовке к отопительному периоду 2008/2009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7696080" cy="4924440"/>
        </p:xfrm>
        <a:graphic>
          <a:graphicData uri="http://schemas.openxmlformats.org/drawingml/2006/table">
            <a:tbl>
              <a:tblPr/>
              <a:tblGrid>
                <a:gridCol w="5627520"/>
                <a:gridCol w="2068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ершить ремонтные рабо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01.09.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ершить работы по гидропромывке и опрессовке отопительных сис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01.09.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ь котельные оформить акты и паспорта готов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0.09.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ть все необходимые запасы твёрдого и жидкого топли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5.09.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ить своевременность  и полноту оплаты текущего потребления  энергонос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все-го отопитель-ного 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ершить работы по установке при-боров учёта и контроля энергонос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01.11.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ede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Медицинские учреждения </a:t>
            </a:r>
            <a:br>
              <a:rPr sz="3200"/>
            </a:br>
            <a:r>
              <a:rPr b="1" lang="en-US" sz="3200" spc="-1" strike="noStrike" u="sng">
                <a:solidFill>
                  <a:srgbClr val="336600"/>
                </a:solidFill>
                <a:uFillTx/>
                <a:latin typeface="Times New Roman"/>
              </a:rPr>
              <a:t>готовые  к приёму тепловой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73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З «Республиканская клиническая  офтальмо-логическая больница Министерства здравоохранения Республики Татарста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З «Детский терапевтический санаторий» г.Нижнекам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З «Республиканское бюро судебно-медицинской экспертизы Министерства здравоохранения Республики Татарста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МУ «Республиканский центр медицинской профилак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З «Республиканская стоматологическая поликлин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5:37:12Z</dcterms:created>
  <dc:creator>worker</dc:creator>
  <dc:description/>
  <dc:language>en-US</dc:language>
  <cp:lastModifiedBy>User</cp:lastModifiedBy>
  <dcterms:modified xsi:type="dcterms:W3CDTF">2008-07-09T06:20:09Z</dcterms:modified>
  <cp:revision>127</cp:revision>
  <dc:subject/>
  <dc:title>Слайд 1</dc:title>
</cp:coreProperties>
</file>